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7F51-1076-4357-92C0-96BE76B61B21}" type="slidenum">
              <a:rPr b="0" lang="de-D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Kontakt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post@thorsten-butz.d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http://www.thorsten-butz.de/public/thorstenbutz.vc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Urheber-Hinweis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ie nachfolgenden Folien stehen jedem Interessierten frei zur Verfügung,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insofern nicht die Rechte dritter Personen oder Organisationen berührt sind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Ich würde mich freuen, wenn Sie mich und die Adresse meiner Homepage i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Ihrer Veröffentlichung nennen würde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Zu 2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Utilities and SDK for Subsystem for UNIX-based Applications in Microsoft Windows Vista RTM/Windows Vista SP1 and Windows Server 2008 RT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go.microsoft.com/fwlink/?LinkId=59121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~ 480 MB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Zu 3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Verschiedene Toolkits stehen zur Auswahl unt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www.suacommunity.com/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U. a. das "Complete Toolset" (~ 190 MB)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ftp://warehousepage:XcR2kioV@ftp.interopsystems.com/pkgs/bundles/pkg-current-bundlecomplete60.ex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Das SSH-Howto im Detai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ie nachfolgenden Beispiele erzeugen einen Beispiel-Benutzer, legen das Heimverzeichnis und die Standardshell fest.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net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ist eine Windows-Anwendung,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chsh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und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finger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müssen aus einer Unix-Shell heraus ausgeführt werden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Lokalen Benutzer erzeugen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Beispiel)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net user /add anton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net user thorsten /HOMEDIR:c:\users\thorsten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Domänen-Benutzer erzeugen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net user /add anton /domain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net user thorsten /HOMEDIR:c:\users\thorsten /DOMAIN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od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net user thorsten /HOMEDIR:\\sea-srv-01\users$\thorsten /DOMAIN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In der Unix-Shell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chsh –u thorsten /usr/local/bin/bash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finger –l thorsten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Die Zugriffsrechte des Benutzerprofils anpasse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er 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SSHD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erwartet eine sichere Konfiguration der Zugriffsrechte im Heimverzeichnis der Benutzer. Leider decken sich die "Vorstellungen" des SSHD so gar nicht, mit den Standardberechtigungen eines Windowsprofils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Windows erzeugt Benutzerprofile, deren Besitzer nicht das entsprechende Benutzerkonto ist (siehe 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Abbildung rechts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er SSHD erwartet jedoch, dass genau dies der Fall ist: der Benutzer muss Besitzer seines Heimverzeichnis sowie des Verzeichnis ".ssh" und der Datei "authorized_keys" se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Soll ein Benutzer sich mittels Zertifikat anmelden können, so sind folgende Anpassungen durchzuführen. Es empfiehlt sich, diese Änderungen mittels Unix-Shell vorzunehmen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Zugriffsrechte setze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a) als Administrato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chown &lt;benutzername&gt; /dev/fs/C/Users/&lt;benutzername&gt;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b) als Benutz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chmod 700 ~/.ssh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chmod 700 ~/.ssh/authorized_keys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chmod 700 ~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0" r="16561" b="39056"/>
          <a:stretch/>
        </p:blipFill>
        <p:spPr>
          <a:xfrm>
            <a:off x="4221000" y="6300720"/>
            <a:ext cx="2376720" cy="251928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"findstr"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er o.g. Befehl "findstr" entspricht dem Unix-Befehl "grep". Der Paramet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-i" erlaubt das Suchen unter Missachtung der Groß-/Kleinschreibung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ie Abbildung oben zeigt, dass das "pipen" zwischen Win32- und Posix-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Applikationen möglich ist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SetUID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Setuid (Set User ID, manchmal auch suid) ist ein erweitertes Unix-Datei-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recht für Dateien oder Verzeichnisse des Unix-Betriebssystems. Ausführba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Programme, bei denen dieses Bit gesetzt ist, werden mit den Rechten d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Benutzers ausgeführt dem die Datei gehört, anstatt mit den Rechten desje-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nigen Benutzers, der die Datei ausführt. Auf den meisten Systemen funk-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tioniert dies nur für ausführbare Binärdateien, nicht jedoch für interpretiert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Scripts."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Quelle: http://de.wikipedia.org/wiki/Setui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Symlinks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Windows erlaubt zwei Arten von "symbolischen Links"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Win32: 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mklink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Posix: 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ln –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1360"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Für ein Beispiel siehe auch Folie 9!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WS 2008 (R2) unterstützt NFS 2 (RFC 1094) und NFS 3 (RFC 1813)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go.microsoft.com/fwlink/?LinkId=44502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Die Neuerungen zu NFS in WS 2008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keine Unterstützung mehr für PCNFS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Gateway for NFS" wurde entfer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64-bit-Suppor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Unterstützung für "Special Devices" (mknod)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Active Directory Lookup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User name mapping" wird nur noch client-seitig unterstützt, der Dienst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ist (letztmalig) in WS 2003 R2 verfügbar.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Die Neuerungen zu NFS in WS 2008 R2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Netgroup suppor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RPCSEC_GSS suppor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WMI-Unterstützung für NF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Unmapped UNIX User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ervices for NFS Step-by-Step Guide for Windows Server 2008 R2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go.microsoft.com/fwlink/?LinkId=151755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Zur Demonstratio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Öffnen Sie auf einem Linuxhost (hier: CentOS) die Datei "/etc/exports"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vi /etc/exports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Ergänzen Sie die Datei mit nachfolgender Zeil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/pub 10.0.0.0/24(rw,root_squash,async)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Stellen Sie sicher, dass "/pub" existiert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mkdir /pub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Starten Sie den NFS-Dienst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/etc/init.d/nfs start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bzw.  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/etc/init.d/nfs restart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In anderen Distributionen heißt das Startscript u. U. anders, zum Bsp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/etc/init.d/nfs-kernel-server start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Nun können Sie von ihrem Windowsclient die Freigabe "mappen"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et use p: \\rdu-srv-01\pub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wobei "rdu-srv-01" der Hostname des Linuxservers ist, oder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mount \\rdu-srv-01\pub p: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NIS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("Network Information System"), ursprünglich auch YP ("Yellow pages") genannt, entstand bei SUN Microsystems als eine vergleichsweise schlichte Technologie zur zentralen Benutzeranmeldung in UNIX-Netzwerken. NIS gilt  als nicht mehr zeitgemäß, da das Verfahren vergleichsweise leicht zu komprimittieren ist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SaMBa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wird seit der ersten Hälfte der 1990er Jahre lebhaft von der OpenSource-Community entwickelt und gehört zu den populärsten OpenSource-Lösungen. Andrew Tridgell begann mit der Analyse des proprietären SMB/CIFS-Protokolls, bis heute ist das Protokoll nicht vollständig standardisiert und offengelegt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Kerberos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(RFC 4120) und 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LDAP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(RFC 4511) sind standardisierte Protokolle. Einen guten Überblick über die verschiedenen Ansätze zum "Single Sign On" (SSO) in Windows/Linux-Netzwerken gibt der nachfolgend Artikel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Zum Weiterlese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Authenticate Linux Clients with Active Directory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von Gil Kirkpatrick im "Technet Magazine", December 2008</a:t>
            </a:r>
            <a:br>
              <a:rPr sz="900"/>
            </a:b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(technet.microsoft.com/en-us/magazine/dd228986.aspx)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[logging]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default = FILE:/var/log/krb5libs.lo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kdc = FILE:/var/log/krb5kdc.lo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admin_server = FILE:/var/log/kadmind.lo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[libdefaults]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default_realm = CONTOSO.COM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dns_lookup_realm = tru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dns_lookup_kdc = tru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ticket_lifetime = 24h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forwardable = yes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[realms]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CONTOSO.COM = {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kdc = sea-srv-01.contoso.com:88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dmin_server = sea-srv-01.contoso.com:749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[domain_realm]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contoso.com = CONTOSO.COM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.contoso.com = CONTOSO.COM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[appdefaults]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pam = {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debug = fals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ticket_lifetime = 36000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renew_lifetime = 36000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forwardable = tru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krb4_convert = fals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5170320" y="4859280"/>
            <a:ext cx="317520" cy="3054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99"/>
                </a:solidFill>
                <a:latin typeface="Verdana"/>
              </a:rPr>
              <a:t>Beispiel-Listing /etc/krb5.conf für CentOS 5.3: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Domänenbeitritt auf Windows-Seite (Teil 1/2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as Active Directory verlangt von Windows-Clients den Beitritt in die Domäne, damit DC und Client wechselseitig sicher stellen können, dass der "Gesprächspartner" authentisch ist. Dies schützt vor "Man-in-the-Middle-Attacken."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Beim Domäneneintritt wird ein Maschinenkonto generiert, ein Vorgang, den der Linuxclient in dieser Form nicht kennt (zumindest nicht in Abwesenheit von SaMBa)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Aus diesem Grund muss der Austausch eines initialen Passworts zwischen Kerberos-Server und Kerberos-Client manuell initiiert werden (siehe Abbildungen oben)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a) 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Neues Computerkonto erstellen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Das Passwort des neuen Computerkontos ist unbekannt.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b) 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Computerkonto zurücksetzen ("Reset Account")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Nun lautet das Passwort gleich dem Hostnamen, hier also "rdu-srv-01".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c) </a:t>
            </a:r>
            <a:r>
              <a:rPr b="1" lang="de-DE" sz="900" spc="-1" strike="noStrike">
                <a:solidFill>
                  <a:srgbClr val="000000"/>
                </a:solidFill>
                <a:latin typeface="Lucida Console"/>
              </a:rPr>
              <a:t>setspn -a host/rdu-srv-01.contoso.com rdu-srv-0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Ein Host-Principal für das neue Computerkonto wird erstellt.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Domänenbeitritt auf Linux-Seite (Teil 2/2)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Variante a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kpasswd rdu-srv-01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 rdu-srv-01 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[Dies ist das aktuelle PW des Computerkontos im AD!]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ktutil: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 addent -password -p rdu-srv-01.contoso.com -k 5 -e rc4-hmac</a:t>
            </a:r>
            <a:br>
              <a:rPr sz="700"/>
            </a:b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 wkt /etc/krb5.keytab </a:t>
            </a: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[wkt = write keytab]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 quit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Um Herauszufinden, welche "Key version number" der Kerberosdienst verwendet, kann man den nachfolgenden Befehl verwende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"kvno rdu-srv-01" 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kvno = "print key version numbers of Kerberos principals")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Variante b)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ktpass" ist ein Windowswerkzeug, das Keytabs erzeugen kann, die man anschließend auf den Linuxhost übertragen kan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Variante c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Wenn geplant ist, ohnehin SaMBa einzusetzen, ist sicherlich dies die best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aller genannten Variante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et ads join join –U administrator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Die Laborumgebu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Alle Beispiele in dieser Präsentation beziehen sich auf das folgende Setup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Lucida Console"/>
              </a:rPr>
              <a:t>sea-srv-01</a:t>
            </a:r>
            <a:r>
              <a:rPr b="0" lang="de-DE" sz="900" spc="-1" strike="noStrike">
                <a:solidFill>
                  <a:srgbClr val="000000"/>
                </a:solidFill>
                <a:latin typeface="Lucida Console"/>
              </a:rPr>
              <a:t> (WS 2008, EN, x86-32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Lucida Console"/>
              </a:rPr>
              <a:t>DC für "contoso.com", DNS, IPv4: 10.0.0.1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Lucida Console"/>
              </a:rPr>
              <a:t>nue-srv-01</a:t>
            </a:r>
            <a:r>
              <a:rPr b="0" lang="de-DE" sz="900" spc="-1" strike="noStrike">
                <a:solidFill>
                  <a:srgbClr val="000000"/>
                </a:solidFill>
                <a:latin typeface="Lucida Console"/>
              </a:rPr>
              <a:t> (SLES 10, SP2, EN, x86-64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Lucida Console"/>
              </a:rPr>
              <a:t>Memberserver, IPv4: 10.0.0.15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Lucida Console"/>
              </a:rPr>
              <a:t>rdu-srv-01 </a:t>
            </a:r>
            <a:r>
              <a:rPr b="0" lang="de-DE" sz="900" spc="-1" strike="noStrike">
                <a:solidFill>
                  <a:srgbClr val="000000"/>
                </a:solidFill>
                <a:latin typeface="Lucida Console"/>
              </a:rPr>
              <a:t>(CentOS 5.3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Lucida Console"/>
              </a:rPr>
              <a:t>Memberserver, IPv4: 10.0.0.152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ie Memberserver beziehen die Systemzeit mittels NTP von "sea-srv-01"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RFC 2397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http://www.ietf.org/rfc/rfc2307.txt):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An Approach for Using LDAP as a Network Information Service"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UNIX/Linux erwartet beim Login eines Anwenders Auskunft über einige Attribute des Benutzerkontos, um beispielsweise das Heimverzeichnis ansprechen zu können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Gemäß RFC 2307 sucht Linux das Attribut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homeDirectory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, das es im Active Directory-Schema durchaus gibt. Jedoch entspricht "homeDirectory" dem Feld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Local Path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im Profil des Benutzers, was in in aller Regel zur Anpassung der Anmeldung an Windowsclients verwendet wird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Aus diesem Grund wird üblicherweile das AD-Schema-Attribut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unixHomeDirectory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verwendet, so dass sich Windows- und UNIX-Pfade unterscheiden lassen. "unixHomeDirectory" ist auf dem Karteireiter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UNIX-Attributes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sichtbar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ieses "Umbiegen"/Zuordnen der Attribute ermöglicht die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/etc/ldap.conf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auf dem Client, die auf der nachfolgenden Seite beschrieben wird. Das oben genannte Beispiel findet sich in der nachfolgend fett gedruckten Direktive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# Attribut-Mapping (RFC2307/AD)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nss_map_attribute       uid             samAccountNam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nss_map_attribute       gecos           displayNam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map_attribute       homeDirectory   unixHomeDirectory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nss_map_attribute       uniqueMember    Member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uri ldap://10.0.0.150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# Attribut-Mapping (RFC2307/AD)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map_attribute       uid             samAccountNam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map_attribute       gecos           displayNam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map_attribute       homeDirectory   unixHomeDirectory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map_attribute       uniqueMember    Member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# Deaktivierte Attribut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map_attribute       memberUID       noSuchAttribut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map_attribute       userPassword    noSuchAttribut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# Klassen-Mappi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map_objectclass     posixAccount    user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map_objectclass     posixGroup      group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map_objectclass     shadowAccount   user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map_objectclass     opjectClass     objectCategory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# 1000 Objekte-Grenze umgehen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pagesize 1000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paged_results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# Bindi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binddn ldapsearch@contoso.com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bindpw password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timelimit 120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bind_timelimit 120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idle_timelimit 3600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nss_initgroups_ignoreusers root,ldap,named,avahi,haldaemon,dbus,radvd,tomcat,radiusd,news,mailman,nscd,gdm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ssl n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tls_cacertdir /etc/openldap/cacerts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pam_password md5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5170320" y="5334120"/>
            <a:ext cx="317520" cy="21603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99"/>
                </a:solidFill>
                <a:latin typeface="Verdana"/>
              </a:rPr>
              <a:t>Beispiel-Listing /etc/ldap-conf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ie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/etc/nsswitch.conf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wird lediglich um die oben gezeigten "ldap"-Einträge ergänzt, mehr ist dort nicht zu tun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ie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/etc/pam.d/system-auth-ac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(CentOS-spezifisch) ist nachfolgend vollständig gelistet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#%PAM-1.0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# This file is auto-generated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Lucida Console"/>
              </a:rPr>
              <a:t># User changes will be destroyed the next time authconfig is run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uth        sufficient    pam_krb5.so use_first_pass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uth        required      pam_env.s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uth        sufficient    pam_unix.so nullok try_first_pass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uth        requisite     pam_succeed_if.so uid &gt;= 500 quiet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uth        required      pam_deny.s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ccount     required      pam_access.s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ccount     required      pam_unix.so broken_shadow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ccount     sufficient    pam_localuser.s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ccount     sufficient    pam_succeed_if.so uid &lt; 500 quiet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ccount     [default=bad success=ok user_unknown=ignore] pam_krb5.s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account     required      pam_permit.s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password    requisite     pam_cracklib.so try_first_pass retry=3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password    sufficient    pam_unix.so md5 shadow nullok try_first_pass use_authtok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password    sufficient    pam_krb5.so use_authtok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password    required      pam_deny.s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session     optional      pam_keyinit.so revok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session     required      pam_limits.s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session     optional      pam_mkhomedir.s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session     [success=1 default=ignore] pam_succeed_if.so service in crond quiet use_uid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session     required      pam_unix.s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Lucida Console"/>
              </a:rPr>
              <a:t>session     optional      pam_krb5.so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Likewise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ist in der freien Variante Bestandteil der (zum Zeitpunkt des Verfassens) aktuellen Ubuntu-Distribution (9.04)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ie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Quest Authentication Services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hießen vormals "Vintela Authentication Services"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Zum Weiterlesen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ix Heft 5/2009, Seite 66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Massenware, Unix-AD-Integration mit 3rd-Party-Produkte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Mark Pröhl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Im Juni 2009 erscheint auf der Connect-Seite zu den "Linux Integration Components" der 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RC der LIC für Hyper-V Version 2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. Mit dem Erscheinen  des Windows Server 2008 R2 wird aller Voraussicht nach die finale Version bereit stehen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Auf meiner Webseite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www.thorsten-butz.de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finden sich in loser Folge Beiträge zu technischen Themen. Als ein Beispiel sei das Erleuchten des CentOS genannt, den ausführlichen Blogeinstrag findet man hier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www.thorsten-butz.de/index.php/enlightening-centos/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700" spc="-1" strike="noStrike">
                <a:solidFill>
                  <a:srgbClr val="000000"/>
                </a:solidFill>
                <a:latin typeface="Verdana"/>
              </a:rPr>
              <a:t>Verfasst von Thorsten Butz im Juni 2009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Zum Weiterlesen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www.heise.de/netze/Microsoft-unterstuetzt-freien-NFSv4-Client-fuer-Windows--/news/meldung/136743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connectivity.hummingbird.com/products/nc/nfs/index.html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Kostenpflichtig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www.heise.de/kiosk/archiv/ct/09/02/180_Daten-Schnellstrasse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www.heise.de/kiosk/archiv/ct/09/02/183_Daten-Sprinter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LIC Version 1 und 2 (Beta)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sind verfügbar über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s://connect.microsoft.com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Anmeldung erforderlich) oder über das MS Download Center (nur LIC Version 1): Linux Integration Components for Windows Server 2008 Hyper-V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www.microsoft.com/downloads/details.aspx?displaylang=en&amp;FamilyID=ab7f4983-93c5-4a70-8c79-0642f0d59ec2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as LICv1-Paket enthält eine detaillierte Anleitung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Linux ICs for Hyper-V.rt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Offizielle Liste zu den unterstützten OS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www.microsoft.com/windowsserver2008/en/us/hyperv-supported-guest-os.aspx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Citrix Satori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www.xen.org/download/satori.html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Citrix Blogeintrag zur Satori-Maus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community.citrix.com/blogs/citrite/simoncr/2009/03/24/The+Tale+of+an+Enlightened+Mouse%3bjsessionid=F21824A5555A48ACC453F8D2FF226D46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KB 96370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"The AltGr key does not work on a Linux virtual machine on a Windows Server 2008-based server that has the Hyper-V role enabled"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support.microsoft.com/kb/963709/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Es reicht u. U. bereits diesen Registry-Schlüssel zu setze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KEY_LOCAL_MACHINE\SOFTWARE\Microsoft\Windows NT\CurrentVersion\Virtualization\Worker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"KeyboardWorkaroundEnabled" = 1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Neu in den LICv2: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Wegfall des "x2v-Shim", kein sogenannter "Hypercall-Adapter" mehr. Es ist nicht mehr notwendig, mittels eines speziellen Eintrags im Bootloadermenu (/boot/grub/menu.lst) einen XEN-Kernel zu starten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Problemfall XE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Seit Anfang 2005 wird die Aufnahme von XEN in den offiziellen Linuxkernel in Aussicht gestellt, jedoch immer wieder kontrovers diskutiert. Die Linux-Entwickler bemängel(te)n die "Qualität des Quellcodes" von XEN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In der Zwischenzeit etablierte sich eine "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paravirt_ops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 genannte Abstrak-tionsschicht, die seit Version 2.6.20 in den Hauptentwicklungszweig des Linuxkernels integriert ist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ie XEN-Entwickler arbeite(te)n an Xen-Patches mit "sauberem Code", die diese neue Schnittstelle verstärkt nutzen. Seit Version 2.6.23 lassen sich Gastsysteme auf Basis dieser neueren Patches auf modernen XEN-Versionen virtualisieren.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Parallel zu dieser Entwicklung erfreut sich in der Linuxgemeinde </a:t>
            </a: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KVM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ständig wachsender Beliebtheit, eine alternative Virtualisierungslösung, die den Linuxkernel selbst zum Hypervisor macht, jedoch auf Intel-VT/AMD-V-CPUs angewiesen ist (im Gegensatz zu XEN)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Zum Weiterlese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Kernel-Log: Morton stellt Aufnahme des Xen-Dom0-Codes in Frage; Dateisysteme für SSDs (Thorsten Leemhuis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www.heise.de/open/Kernel-Log-Morton-stellt-Aufnahme-des-Xen-Dom0-Codes-in-Frage-Dateisysteme-fuer-SSDs--/artikel/134016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Das Vorgehen im Detail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Lucida Console"/>
              </a:rPr>
              <a:t>mkdir /media/Cent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Lucida Console"/>
              </a:rPr>
              <a:t>mount /dev/hdc /media/Cent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Lucida Console"/>
              </a:rPr>
              <a:t>..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montiert das IDE-DVDRom "hdc" nach /media /CentOS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"mount" zeigt die aktuell eingebunden Laufwerke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Lucida Console"/>
              </a:rPr>
              <a:t>yum --disablerepo=\* --enablerepo=c5-media install gcc kernel-deve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Falls nötig make, gnupg etc. in gleicher Weise installieren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Vorausgesetzt die LICv2-CD ist als "media/CDROM" eingebunde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Lucida Console"/>
              </a:rPr>
              <a:t>mkdir /root/lic-v2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Lucida Console"/>
              </a:rPr>
              <a:t>cp /media/CDROM /root/lic-v2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Lucida Console"/>
              </a:rPr>
              <a:t>/root/lic-v2/setup.pl driver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Es entstehen unmittelbar neue Geräte, zum Beispiel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Lucida Console"/>
              </a:rPr>
              <a:t>/dev/seth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oder</a:t>
            </a:r>
            <a:r>
              <a:rPr b="1" lang="de-DE" sz="800" spc="-1" strike="noStrike">
                <a:solidFill>
                  <a:srgbClr val="000000"/>
                </a:solidFill>
                <a:latin typeface="Lucida Console"/>
              </a:rPr>
              <a:t> /dev/sda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8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Siehe auch: </a:t>
            </a: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Linux ICs v2 Beta for Hyper-V - Read Me.pd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Bestandteil des LICv2-Pakets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Zum Weiterlese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"Subsystem for UNIX-based Applications and POSIX Compliance"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(MS Technet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technet.microsoft.com/en-us/library/cc754351.aspx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InterOp: Windows Services For UNIX (Charlie Russel),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TechnetMag US, Spring 200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technet.microsoft.com/en-us/magazine/2005.05.interop.aspx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Vorgeschicht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1994 führt Microsoft in Windows NT 3.5 das erste Posix-Subsystem ein (erste Ansätze von Posix-Konformität waren gemäß Wikipedia auch schon in der vorherigen Veröffentlichung von Windows NT vorhanden). Vorangig diente dies wohl dazu, dass Aufträge der US-Regierung und des US-Militärs einfacher oder überhaupt nur zu erhalten waren, wenn das Betriebssystem "posix compliant" war.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OpenNT, später Interix: Versionen 1.0 – 2.2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Ursprünglich entwickelt von "Softway Systems" für Windows NT 3.51,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1999 übernahm MS die Firm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Services for Unix (SFU): Interix 3.0 to 3.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Eigenständiges Softwarepaket für Win2000, WinXP und WS 200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SUA in WS 2003 R2: Interix  5.2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SUA in WS 2008/Vista: Interix 6.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SUA in WS 2008R2/W7: Interix 6.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Verdana"/>
              </a:rPr>
              <a:t>Zum Weiterlesen/Weiterschauen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www.computerwoche.de/heftarchiv/1999/38/1088842/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www.interopsystems.com/SUAfamiliarization-02.wmv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Verdana"/>
              </a:rPr>
              <a:t>http://en.wikipedia.org/wiki/Windows_nt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1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052640" y="4427640"/>
            <a:ext cx="4647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1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99"/>
                </a:solidFill>
                <a:latin typeface="Verdana"/>
              </a:rPr>
              <a:t>Das </a:t>
            </a:r>
            <a:r>
              <a:rPr b="1" lang="de-DE" sz="900" spc="-1" strike="noStrike">
                <a:solidFill>
                  <a:srgbClr val="000099"/>
                </a:solidFill>
                <a:latin typeface="Verdana"/>
              </a:rPr>
              <a:t>Win32-</a:t>
            </a:r>
            <a:r>
              <a:rPr b="0" lang="de-DE" sz="900" spc="-1" strike="noStrike">
                <a:solidFill>
                  <a:srgbClr val="000099"/>
                </a:solidFill>
                <a:latin typeface="Verdana"/>
              </a:rPr>
              <a:t> und das </a:t>
            </a:r>
            <a:r>
              <a:rPr b="1" lang="de-DE" sz="900" spc="-1" strike="noStrike">
                <a:solidFill>
                  <a:srgbClr val="000099"/>
                </a:solidFill>
                <a:latin typeface="Verdana"/>
              </a:rPr>
              <a:t>Posix-Subsystem</a:t>
            </a:r>
            <a:r>
              <a:rPr b="0" lang="de-DE" sz="900" spc="-1" strike="noStrike">
                <a:solidFill>
                  <a:srgbClr val="000099"/>
                </a:solidFill>
                <a:latin typeface="Verdana"/>
              </a:rPr>
              <a:t> unterscheiden auf sehr unterschiedliche Weise die Groß-/Kleinschreibung, was leider in folgendem Fall zu schweren Inkompatibiläten führt.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99"/>
                </a:solidFill>
                <a:latin typeface="Verdana"/>
              </a:rPr>
              <a:t>Das Win32-Subsystem arbeitet "case-preserving", speichert die gewählte Schreibweise zwar, unterscheidet dann aber nicht mehr. So ist es zum Bsp. mit "notepad.exe" nicht möglich zwei Dateien "Brief.txt" und "brief.txt" im selben Verzeichnis zu erzeugen. 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99"/>
                </a:solidFill>
                <a:latin typeface="Verdana"/>
              </a:rPr>
              <a:t>Das Posix-Subsystem arbeitet dagegen streng "case-sensitive". 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99"/>
                </a:solidFill>
                <a:latin typeface="Verdana"/>
              </a:rPr>
              <a:t>Zur Demonstration: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99"/>
                </a:solidFill>
                <a:latin typeface="Verdana"/>
              </a:rPr>
              <a:t>Erstellen Sie ein Verzeichnis (</a:t>
            </a:r>
            <a:r>
              <a:rPr b="1" lang="de-DE" sz="700" spc="-1" strike="noStrike">
                <a:solidFill>
                  <a:srgbClr val="000099"/>
                </a:solidFill>
                <a:latin typeface="Lucida Console"/>
              </a:rPr>
              <a:t>mkdir c:\sales</a:t>
            </a:r>
            <a:r>
              <a:rPr b="0" lang="de-DE" sz="700" spc="-1" strike="noStrike">
                <a:solidFill>
                  <a:srgbClr val="000099"/>
                </a:solidFill>
                <a:latin typeface="Verdana"/>
              </a:rPr>
              <a:t>), erstellen Sie dort mit "notepad.exe" eine Datei 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99"/>
                </a:solidFill>
                <a:latin typeface="Verdana"/>
              </a:rPr>
              <a:t>"</a:t>
            </a:r>
            <a:r>
              <a:rPr b="1" lang="de-DE" sz="700" spc="-1" strike="noStrike">
                <a:solidFill>
                  <a:srgbClr val="000099"/>
                </a:solidFill>
                <a:latin typeface="Verdana"/>
              </a:rPr>
              <a:t>Brief.txt</a:t>
            </a:r>
            <a:r>
              <a:rPr b="0" lang="de-DE" sz="700" spc="-1" strike="noStrike">
                <a:solidFill>
                  <a:srgbClr val="000099"/>
                </a:solidFill>
                <a:latin typeface="Verdana"/>
              </a:rPr>
              <a:t>" (großer Anfangsbuchstabe) und eine Datei "</a:t>
            </a:r>
            <a:r>
              <a:rPr b="1" lang="de-DE" sz="700" spc="-1" strike="noStrike">
                <a:solidFill>
                  <a:srgbClr val="000099"/>
                </a:solidFill>
                <a:latin typeface="Verdana"/>
              </a:rPr>
              <a:t>brief.txt</a:t>
            </a:r>
            <a:r>
              <a:rPr b="0" lang="de-DE" sz="700" spc="-1" strike="noStrike">
                <a:solidFill>
                  <a:srgbClr val="000099"/>
                </a:solidFill>
                <a:latin typeface="Verdana"/>
              </a:rPr>
              <a:t>" (kleine Buchstaben) mit "vi"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99"/>
                </a:solidFill>
                <a:latin typeface="Verdana"/>
              </a:rPr>
              <a:t>(vi ist ein Texteditor, den Sie über eine SUA-Shell wie die CShell starten müssen). Füllen sie die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99"/>
                </a:solidFill>
                <a:latin typeface="Verdana"/>
              </a:rPr>
              <a:t>Dateien mit Text, so dass die Inhalte zu unterscheiden sind. 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99"/>
                </a:solidFill>
                <a:latin typeface="Lucida Console"/>
              </a:rPr>
              <a:t>cd /dev/fs/C/sales/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99"/>
                </a:solidFill>
                <a:latin typeface="Lucida Console"/>
              </a:rPr>
              <a:t>ln Brief.txt gross.txt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[erstellt einen Hardlink]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99"/>
                </a:solidFill>
                <a:latin typeface="Lucida Console"/>
              </a:rPr>
              <a:t>ln brief.txt klein.txt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[SYNTAX: ln </a:t>
            </a:r>
            <a:r>
              <a:rPr b="1" lang="de-DE" sz="700" spc="-1" strike="noStrike">
                <a:solidFill>
                  <a:srgbClr val="000099"/>
                </a:solidFill>
                <a:latin typeface="Lucida Console"/>
              </a:rPr>
              <a:t>&lt;BestehendeDatei&gt;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 &lt;NeuerLink&gt;]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[Win32 und Interix eindeutig unterscheiden]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99"/>
                </a:solidFill>
                <a:latin typeface="Lucida Console"/>
              </a:rPr>
              <a:t>ln –s Brief.txt Gross_sym.txt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[erstellt einen Symlink]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99"/>
                </a:solidFill>
                <a:latin typeface="Lucida Console"/>
              </a:rPr>
              <a:t>ln –s brief.txt klein_sym.txt</a:t>
            </a:r>
            <a:r>
              <a:rPr b="1" lang="de-DE" sz="7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[Dateien können von Win32 nicht verarbeitet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werden.]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Alternative "mklink", SYNTAX: 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mklink /H &lt;NeuerLink&gt; </a:t>
            </a:r>
            <a:r>
              <a:rPr b="1" lang="de-DE" sz="700" spc="-1" strike="noStrike">
                <a:solidFill>
                  <a:srgbClr val="000099"/>
                </a:solidFill>
                <a:latin typeface="Lucida Console"/>
              </a:rPr>
              <a:t>&lt;BestehendeDatei&gt;     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[erstellt einen Hardlink]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mklink &lt;NeuerLink&gt; </a:t>
            </a:r>
            <a:r>
              <a:rPr b="1" lang="de-DE" sz="700" spc="-1" strike="noStrike">
                <a:solidFill>
                  <a:srgbClr val="000099"/>
                </a:solidFill>
                <a:latin typeface="Lucida Console"/>
              </a:rPr>
              <a:t>&lt;BestehendeDatei&gt;        </a:t>
            </a:r>
            <a:r>
              <a:rPr b="0" lang="de-DE" sz="700" spc="-1" strike="noStrike">
                <a:solidFill>
                  <a:srgbClr val="000099"/>
                </a:solidFill>
                <a:latin typeface="Lucida Console"/>
              </a:rPr>
              <a:t>[erstellt einen Symlink]</a:t>
            </a:r>
            <a:endParaRPr b="0" lang="en-US" sz="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4C3-F246-4057-A381-6E769935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05800"/>
            <a:ext cx="8091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95E-06A8-4497-BF71-96E0AE0E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448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0580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4480" y="410580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96D-3D76-442D-BF53-5E990D35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4360" y="177336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360" y="177336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0580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4360" y="410580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360" y="410580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E05-08D0-4A15-9BE9-D8185D84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74F7-DE5E-46C2-8568-38F4B27F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1CA4-0338-4484-993A-9F397DB0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2231-919F-4F32-B85D-C08DFED0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39484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4480" y="1773360"/>
            <a:ext cx="39484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01DC-D723-4BB2-B532-DAB479A7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2435-5E0B-4E2E-8244-C13547A4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2440" y="456840"/>
            <a:ext cx="599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CBA5-78B2-45B9-AA38-D87100A9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4480" y="1773360"/>
            <a:ext cx="39484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410580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441D-532D-496E-B344-28FC1DE2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646-8E33-4780-A10D-4F22FFBE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39484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448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14480" y="410580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58A7-F0D4-405F-B6D0-921C69E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448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05800"/>
            <a:ext cx="8091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73EE-CB10-4292-970F-7ED8A21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4105800"/>
            <a:ext cx="8091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C28A-DA89-419F-9D5C-E005A46D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1448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410580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14480" y="410580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4452-7592-41A7-AD77-AD1AF32F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04360" y="177336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360" y="177336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410580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04360" y="410580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360" y="4105800"/>
            <a:ext cx="260532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25B2-65D9-471C-A863-F99958DD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54A-B532-4097-A97F-D7E52E0A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39484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4480" y="1773360"/>
            <a:ext cx="39484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63E-BBBC-4E56-A7A1-BAC13017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AF2-CB36-4DA9-956C-A5234CA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2440" y="456840"/>
            <a:ext cx="599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9F2-07A5-4095-8BCA-1C887B1F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4480" y="1773360"/>
            <a:ext cx="39484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0580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FCB-A864-46B1-B771-A91B3B7D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39484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448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4480" y="410580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A04-15C9-4B25-8E52-CF1D329C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4480" y="1773360"/>
            <a:ext cx="39484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05800"/>
            <a:ext cx="8091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382-574B-48B7-9F21-CF4D53F0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857160" indent="-2444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127160" indent="-2444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1387440" indent="-2444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1387440" indent="-2444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1387440" indent="-2444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41000" y="638136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808C-3F23-4762-BC3F-DFD039495F09}" type="datetime">
              <a:rPr b="0" lang="de-DE" sz="1000" spc="-1" strike="noStrike">
                <a:solidFill>
                  <a:srgbClr val="ffffff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12760" y="638136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20120" y="638136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3C5D-164F-4A8F-9505-FE986ACC0DDC}" type="slidenum">
              <a:rPr b="0" lang="de-D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02FA-16DA-4743-9985-32956CC0AB04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5819-206A-4168-B31D-79990410E4C7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soft.com/learning/mcp/mct/default.asp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lpi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en.org/download/satori.html" TargetMode="External"/><Relationship Id="rId2" Type="http://schemas.openxmlformats.org/officeDocument/2006/relationships/hyperlink" Target="http://support.microsoft.com/kb/963709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8720" y="2168640"/>
            <a:ext cx="748836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99"/>
                </a:solidFill>
                <a:latin typeface="Verdana"/>
              </a:rPr>
              <a:t>Windows-Linux</a:t>
            </a:r>
            <a:r>
              <a:rPr b="0" lang="de-DE" sz="5400" spc="-1" strike="noStrike">
                <a:solidFill>
                  <a:srgbClr val="000099"/>
                </a:solidFill>
                <a:latin typeface="Verdana"/>
              </a:rPr>
              <a:t> Kooperation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0099"/>
                </a:solidFill>
                <a:latin typeface="Verdana"/>
              </a:rPr>
              <a:t>Thorsten Butz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www.thorsten-butz.d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2" name="" descr="MCT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8640" y="403200"/>
            <a:ext cx="213336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Linux Professional Institute (LPI)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7160" y="231840"/>
            <a:ext cx="9144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51D-D075-4CE5-8C22-57EF26778E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F2224-F549-449F-81A8-16B1951C2B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Installation in 3 Schritten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00"/>
                </a:solidFill>
                <a:latin typeface="Verdana"/>
              </a:rPr>
              <a:t>1.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de-DE" sz="1800" spc="-1" strike="noStrike">
                <a:solidFill>
                  <a:srgbClr val="000099"/>
                </a:solidFill>
                <a:latin typeface="Lucida Console"/>
              </a:rPr>
              <a:t>servermanagercmd –i Subsystem-UNIX-Apps </a:t>
            </a:r>
            <a:br>
              <a:rPr sz="1800"/>
            </a:b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00"/>
                </a:solidFill>
                <a:latin typeface="Verdana"/>
              </a:rPr>
              <a:t>2.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  Download/Installation 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"Utilities and SDK"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(Microsoft)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00"/>
                </a:solidFill>
                <a:latin typeface="Verdana"/>
              </a:rPr>
              <a:t>3.</a:t>
            </a:r>
            <a:r>
              <a:rPr b="0" lang="de-DE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Download/Installation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"SUA Community 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Toolkit"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(Interop System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3280" y="2637000"/>
            <a:ext cx="4381560" cy="204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801-9830-440D-A2D7-0854F5040E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EE2E7-19B7-419B-A298-B740A2C863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456840"/>
            <a:ext cx="67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Populäre Anwendungen: SSH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Installation: </a:t>
            </a:r>
            <a:r>
              <a:rPr b="0" lang="de-DE" sz="1800" spc="-1" strike="noStrike">
                <a:solidFill>
                  <a:srgbClr val="000099"/>
                </a:solidFill>
                <a:latin typeface="Lucida Console"/>
              </a:rPr>
              <a:t>pkg_update –L openssh</a:t>
            </a:r>
            <a:br>
              <a:rPr sz="18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Start/Stop:  </a:t>
            </a:r>
            <a:r>
              <a:rPr b="0" lang="de-DE" sz="1800" spc="-1" strike="noStrike">
                <a:solidFill>
                  <a:srgbClr val="000099"/>
                </a:solidFill>
                <a:latin typeface="Lucida Console"/>
              </a:rPr>
              <a:t>/etc/init.d/sshd start|stop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Lucida Console"/>
              </a:rPr>
              <a:t>(</a:t>
            </a:r>
            <a:r>
              <a:rPr b="0" lang="de-DE" sz="2400" spc="-1" strike="noStrike">
                <a:solidFill>
                  <a:srgbClr val="000099"/>
                </a:solidFill>
                <a:latin typeface="Lucida Console"/>
              </a:rPr>
              <a:t>SSHD startet 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nach der Installation automatisch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Benutzer anlegen, Heimverzeichnis festlegen: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Lucida Console"/>
              </a:rPr>
              <a:t>net user thorsten /HOMEDIR:c:\users\thorsten </a:t>
            </a:r>
            <a:r>
              <a:rPr b="0" lang="de-DE" sz="1800" spc="-1" strike="noStrike">
                <a:solidFill>
                  <a:srgbClr val="8591ff"/>
                </a:solidFill>
                <a:latin typeface="Lucida Console"/>
              </a:rPr>
              <a:t>/DOM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Shell definieren: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Lucida Console"/>
              </a:rPr>
              <a:t>chsh –u thorsten /usr/local/bin/bash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358-42DD-427E-AD8C-953414417E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1004B-F3A2-4410-9DE9-FD07BDF380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Zertifikatsbasiertes Login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sh-keygen -t rsa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mv id_rsa.pub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~/.ssh/authorized_key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d_rsa auf den SSH-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Client kopiere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Ggf. "id_rsa" mit 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PuTTYGen konver-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tieren in "id_rsa.ppk"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Zugriffsrechte beachten!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5335560" y="1639800"/>
            <a:ext cx="3598920" cy="432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id_rsa = Private Key</a:t>
            </a:r>
            <a:br>
              <a:rPr sz="1800"/>
            </a:b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21160" y="2130480"/>
            <a:ext cx="3613320" cy="43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id_rsa.pub = Public Key</a:t>
            </a:r>
            <a:br>
              <a:rPr sz="1800"/>
            </a:b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0" b="36786"/>
          <a:stretch/>
        </p:blipFill>
        <p:spPr>
          <a:xfrm>
            <a:off x="4643280" y="3429000"/>
            <a:ext cx="4343400" cy="26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FBE-C470-4B9F-9876-1A2A553268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3A10F-E494-4CC7-B979-2E04595F10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Win32 und Interix Hand in Hand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Der Windows-Kernel stellt beide Subsysteme gleichrangig zur Verfügu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Win32 unterstützt nicht alle Unix-spezifischen Eigenschaften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Groß-/Kleinschreibung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im Dateisystem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Symlink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SetUID, ROO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95640" y="4221000"/>
            <a:ext cx="4962600" cy="20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8B6-C3DF-4C4C-A714-2934F02737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51A5E-4273-42AD-98E8-59AA900E43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NFS-Server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28907" b="0"/>
          <a:stretch/>
        </p:blipFill>
        <p:spPr>
          <a:xfrm>
            <a:off x="192240" y="1370160"/>
            <a:ext cx="5275080" cy="3714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408560" y="189000"/>
            <a:ext cx="3476520" cy="3314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667480" y="2060640"/>
            <a:ext cx="3400200" cy="3133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rcRect l="0" t="0" r="0" b="62493"/>
          <a:stretch/>
        </p:blipFill>
        <p:spPr>
          <a:xfrm>
            <a:off x="3851280" y="5084640"/>
            <a:ext cx="4210200" cy="1268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rot="5400000">
            <a:off x="5184000" y="3292200"/>
            <a:ext cx="719280" cy="360360"/>
          </a:xfrm>
          <a:custGeom>
            <a:avLst/>
            <a:gdLst>
              <a:gd name="textAreaLeft" fmla="*/ 239760 w 719280"/>
              <a:gd name="textAreaRight" fmla="*/ 616320 w 719280"/>
              <a:gd name="textAreaTop" fmla="*/ 2221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6403"/>
                </a:moveTo>
                <a:lnTo>
                  <a:pt x="13303" y="16403"/>
                </a:lnTo>
                <a:lnTo>
                  <a:pt x="13303" y="7200"/>
                </a:lnTo>
                <a:lnTo>
                  <a:pt x="10203" y="7200"/>
                </a:lnTo>
                <a:lnTo>
                  <a:pt x="15902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16200000">
            <a:off x="7763400" y="4916520"/>
            <a:ext cx="958680" cy="431640"/>
          </a:xfrm>
          <a:custGeom>
            <a:avLst/>
            <a:gdLst>
              <a:gd name="textAreaLeft" fmla="*/ 320760 w 958680"/>
              <a:gd name="textAreaRight" fmla="*/ 784080 w 958680"/>
              <a:gd name="textAreaTop" fmla="*/ 294120 h 431640"/>
              <a:gd name="textAreaBottom" fmla="*/ 3531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8644"/>
                </a:moveTo>
                <a:lnTo>
                  <a:pt x="14710" y="18644"/>
                </a:lnTo>
                <a:lnTo>
                  <a:pt x="14710" y="7226"/>
                </a:lnTo>
                <a:lnTo>
                  <a:pt x="10776" y="7226"/>
                </a:lnTo>
                <a:lnTo>
                  <a:pt x="16188" y="0"/>
                </a:lnTo>
                <a:lnTo>
                  <a:pt x="21600" y="7226"/>
                </a:lnTo>
                <a:lnTo>
                  <a:pt x="17666" y="7226"/>
                </a:lnTo>
                <a:lnTo>
                  <a:pt x="176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A2E-D882-42E9-AD56-B573E028B1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0646A-4CC3-4615-BD1F-2C2371912A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NFS-Client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UNIX/Linux, Windows: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Lucida Console"/>
              </a:rPr>
              <a:t>showmount –e &lt;nfs-server&gt;</a:t>
            </a:r>
            <a:r>
              <a:rPr b="0" lang="de-DE" sz="24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UNIX/Linux-CLient: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Lucida Console"/>
              </a:rPr>
              <a:t>mount –t nfs &lt;nfs-server&gt;:/&lt;share&gt; /mnt/&lt;localname&gt;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Windows-Client: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Lucida Console"/>
              </a:rPr>
              <a:t>net use * \\&lt;nfs-server&gt;\&lt;share&gt;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10497" b="28389"/>
          <a:stretch/>
        </p:blipFill>
        <p:spPr>
          <a:xfrm>
            <a:off x="3492360" y="333360"/>
            <a:ext cx="5319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6FE-D26A-44B9-87E4-AA65BFC74F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7F1B2-DF9E-453E-9714-A0DEDFDD80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Teil 3: Windows/Linux SSO 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Microsofts "Server for NIS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SaMBa (mit Kerberos und LDAP Support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Verdana"/>
              </a:rPr>
              <a:t>Native Anbindung mit Kerberos und LDAP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0DF-3744-4107-A904-E2A908014A8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5B2B9-E25A-4B2D-B38E-C84CE08579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Kerberos Auth. gegen AD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98320" y="1738440"/>
            <a:ext cx="3267360" cy="2247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95440" y="4098960"/>
            <a:ext cx="5638680" cy="1609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0" t="0" r="0" b="25854"/>
          <a:stretch/>
        </p:blipFill>
        <p:spPr>
          <a:xfrm>
            <a:off x="4716360" y="1341360"/>
            <a:ext cx="4219560" cy="338292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7445520" y="4535640"/>
            <a:ext cx="1368360" cy="720720"/>
            <a:chOff x="7445520" y="4535640"/>
            <a:chExt cx="1368360" cy="720720"/>
          </a:xfrm>
        </p:grpSpPr>
        <p:sp>
          <p:nvSpPr>
            <p:cNvPr id="167" name=""/>
            <p:cNvSpPr/>
            <p:nvPr/>
          </p:nvSpPr>
          <p:spPr>
            <a:xfrm>
              <a:off x="7445520" y="4535640"/>
              <a:ext cx="1368360" cy="720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35880" y="459108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Beispiel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CentO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592-4C27-4081-BF36-B3923BD883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8A95E-C61E-4AAA-AB41-BCA79A2719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Domänenbeitritt eines Linux-Hosts</a:t>
            </a:r>
            <a:r>
              <a:rPr b="0" lang="de-DE" sz="2800" spc="-1" strike="noStrike">
                <a:solidFill>
                  <a:srgbClr val="000099"/>
                </a:solidFill>
                <a:latin typeface="Verdana"/>
              </a:rPr>
              <a:t> (1)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6800" y="5089680"/>
            <a:ext cx="8001000" cy="1171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3962520" cy="2466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07960" y="1701720"/>
            <a:ext cx="3543480" cy="3286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 flipV="1">
            <a:off x="3954600" y="3352680"/>
            <a:ext cx="444240" cy="371520"/>
          </a:xfrm>
          <a:prstGeom prst="line">
            <a:avLst/>
          </a:prstGeom>
          <a:ln w="255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9640" y="3716280"/>
            <a:ext cx="2385720" cy="1152360"/>
            <a:chOff x="3419640" y="3716280"/>
            <a:chExt cx="2385720" cy="1152360"/>
          </a:xfrm>
        </p:grpSpPr>
        <p:sp>
          <p:nvSpPr>
            <p:cNvPr id="175" name=""/>
            <p:cNvSpPr/>
            <p:nvPr/>
          </p:nvSpPr>
          <p:spPr>
            <a:xfrm>
              <a:off x="3419640" y="3716280"/>
              <a:ext cx="2385720" cy="11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92440" y="3914640"/>
              <a:ext cx="215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Nach dem "Reset": Computerpasswort = Hostnam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V="1">
            <a:off x="6372360" y="3500280"/>
            <a:ext cx="6120" cy="1495440"/>
          </a:xfrm>
          <a:prstGeom prst="line">
            <a:avLst/>
          </a:prstGeom>
          <a:ln cap="rnd" w="25560">
            <a:solidFill>
              <a:srgbClr val="000099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462-D12F-4CE4-A7EE-07EC7DD51AE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FD638-02E3-447F-BEAD-3CB6EFEC35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Domänenbeitritt eines Linux-Hosts</a:t>
            </a:r>
            <a:r>
              <a:rPr b="0" lang="de-DE" sz="2800" spc="-1" strike="noStrike">
                <a:solidFill>
                  <a:srgbClr val="000099"/>
                </a:solidFill>
                <a:latin typeface="Verdana"/>
              </a:rPr>
              <a:t> (2)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Keytab manuell erzeugen: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kpasswd, kvno, ktutil ... (auf dem Linux-Host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ktpass (auf dem DC, anschließend Keytab nach Linux kopieren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Beitritt mit Hilfe von SaMBa: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Lucida Console"/>
              </a:rPr>
              <a:t>net ads join –U &lt;domain-admin&gt;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CD6-A379-4DCF-8A0D-85EC736799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93187-7344-47E3-80FE-3AAB0DD1BB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Agenda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Teil 1: 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Linux@Hyper-V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711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Teil 2: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Subsystem for UNIX-based Applications 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(SUA), NFS-Server/Client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711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Teil 3: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Windows/Linux SSO: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Active Directory-Authentifizierung für 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Linux-Clie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30E-2442-4EE6-8A32-65F55440A6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58437-2DD7-48BA-AFB7-2C1ADF1AB9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RFC 2307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9640" y="1557360"/>
          <a:ext cx="4573800" cy="4263840"/>
        </p:xfrm>
        <a:graphic>
          <a:graphicData uri="http://schemas.openxmlformats.org/drawingml/2006/table">
            <a:tbl>
              <a:tblPr/>
              <a:tblGrid>
                <a:gridCol w="2217960"/>
                <a:gridCol w="2355840"/>
              </a:tblGrid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RFC2307-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Attribut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WS 2008 AD-Schema-Attribut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id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id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amAccountName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idNumbe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idNumbe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gidNumbe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gidNumbe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gec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gec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splayName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homeDirectory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nixHomeDirectory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loginShell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loginShell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" descr=""/>
          <p:cNvPicPr/>
          <p:nvPr/>
        </p:nvPicPr>
        <p:blipFill>
          <a:blip r:embed="rId1"/>
          <a:srcRect l="0" t="0" r="0" b="5438"/>
          <a:stretch/>
        </p:blipFill>
        <p:spPr>
          <a:xfrm>
            <a:off x="5186520" y="2409840"/>
            <a:ext cx="3943080" cy="3755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0" t="0" r="0" b="24858"/>
          <a:stretch/>
        </p:blipFill>
        <p:spPr>
          <a:xfrm>
            <a:off x="5181480" y="352440"/>
            <a:ext cx="3848400" cy="19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67C-6B11-4935-B83B-F254D52AB7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790AA-52D3-4E8C-AD98-D915BB4349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LDAP-Auth.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2800" y="1412640"/>
            <a:ext cx="3841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/etc/ldap.conf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(Ausschnitt)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0" b="26007"/>
          <a:stretch/>
        </p:blipFill>
        <p:spPr>
          <a:xfrm>
            <a:off x="515880" y="2463840"/>
            <a:ext cx="6181920" cy="36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4257720" cy="197172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7596360" y="2781360"/>
            <a:ext cx="1368360" cy="720720"/>
            <a:chOff x="7596360" y="2781360"/>
            <a:chExt cx="1368360" cy="720720"/>
          </a:xfrm>
        </p:grpSpPr>
        <p:sp>
          <p:nvSpPr>
            <p:cNvPr id="189" name=""/>
            <p:cNvSpPr/>
            <p:nvPr/>
          </p:nvSpPr>
          <p:spPr>
            <a:xfrm>
              <a:off x="7596360" y="2781360"/>
              <a:ext cx="1368360" cy="720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86720" y="283680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Beispiel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CentO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E0A-8D2A-424F-ABF0-0FBDD3A9C2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1237A-8011-46D8-A14A-1026528BD6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Abschlussarbeiten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2800" y="1881360"/>
            <a:ext cx="8701200" cy="44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PAM-Konfiguration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(/etc/pam.d/&lt;configfile&gt;)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:</a:t>
            </a:r>
            <a:br>
              <a:rPr sz="2400"/>
            </a:br>
            <a:br>
              <a:rPr sz="500"/>
            </a:br>
            <a:r>
              <a:rPr b="0" lang="de-DE" sz="1600" spc="-1" strike="noStrike">
                <a:solidFill>
                  <a:srgbClr val="000099"/>
                </a:solidFill>
                <a:latin typeface="Lucida Console"/>
              </a:rPr>
              <a:t>auth     sufficient pam_krb5.so  minimum_uid 1000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Lucida Console"/>
              </a:rPr>
              <a:t>account  sufficient pam_krb5.so  minimum_uid 1000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Lucida Console"/>
              </a:rPr>
              <a:t>password sufficient pam_krb5.so  use_authtok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Lucida Console"/>
              </a:rPr>
              <a:t>session  optional   pam_krb5.so  minimum_uid 1000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Namensauflösung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(/etc/nsswitch.conf):</a:t>
            </a:r>
            <a:br>
              <a:rPr sz="2000"/>
            </a:br>
            <a:br>
              <a:rPr sz="500"/>
            </a:br>
            <a:r>
              <a:rPr b="0" lang="de-DE" sz="1600" spc="-1" strike="noStrike">
                <a:solidFill>
                  <a:srgbClr val="000099"/>
                </a:solidFill>
                <a:latin typeface="Lucida Console"/>
              </a:rPr>
              <a:t>passwd: files ldap 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Lucida Console"/>
              </a:rPr>
              <a:t>group:  files ldap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Lucida Console"/>
              </a:rPr>
              <a:t>shadow: files ldap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77E-BB79-4DA8-BD90-88D9E532C2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5B6AB-9C19-446D-97F3-94F7C1FFFD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(Kommerzielle) Alternativen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Likewise (vormals Centeris),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Open Source-Edition verfügba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Quest Authentication Services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Centrify Suite 2008/Direct Contr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Symark PowerADVantag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BD2-2ED5-4309-8F6C-0B9EDB82BF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035BE-7F4E-409C-9A96-7080EDADEA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Zum Weiterlesen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34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Connect-Newsgroup Hyper-V.Linux</a:t>
            </a:r>
            <a:br>
              <a:rPr sz="2000"/>
            </a:br>
            <a:r>
              <a:rPr b="0" lang="de-DE" sz="1400" spc="-1" strike="noStrike">
                <a:solidFill>
                  <a:srgbClr val="000099"/>
                </a:solidFill>
                <a:latin typeface="Verdana"/>
              </a:rPr>
              <a:t>nntp://connectnews.microsoft.com/microsoft.beta.windowsserver.hyper-v.linux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Verdana"/>
              </a:rPr>
              <a:t>(Anmeldung via "connect.microsoft.com" erforderlich)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34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SUA-Community/InterOp-Systems Learning Center</a:t>
            </a:r>
            <a:r>
              <a:rPr b="0" lang="de-DE" sz="14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Verdana"/>
              </a:rPr>
              <a:t>www.interopsystems.com/learning.htm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34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reiteiliges AD/Unix-Tutorial</a:t>
            </a:r>
            <a:r>
              <a:rPr b="0" lang="de-DE" sz="14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Verdana"/>
              </a:rPr>
              <a:t>von Mark Pröhl und Michael Weiser in "iX", Heft 10/11/12 2008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Verdana"/>
              </a:rPr>
              <a:t>(www.heise.de/kiosk, kostenpflichtig)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34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"Authenticate Linux Clients with Active Directory"</a:t>
            </a:r>
            <a:br>
              <a:rPr sz="1400"/>
            </a:b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von </a:t>
            </a:r>
            <a:r>
              <a:rPr b="0" lang="de-DE" sz="1400" spc="-1" strike="noStrike">
                <a:solidFill>
                  <a:srgbClr val="000099"/>
                </a:solidFill>
                <a:latin typeface="Verdana"/>
              </a:rPr>
              <a:t>Gil Kirkpatrick im "Technet Magazine", December 2008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Verdana"/>
              </a:rPr>
              <a:t>(technet.microsoft.com/en-us/magazine/dd228986.aspx)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34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Weitere Informationen und Howtos zum Vortrag:</a:t>
            </a:r>
            <a:br>
              <a:rPr sz="2000"/>
            </a:br>
            <a:r>
              <a:rPr b="0" lang="de-DE" sz="1400" spc="-1" strike="noStrike">
                <a:solidFill>
                  <a:srgbClr val="000099"/>
                </a:solidFill>
                <a:latin typeface="Verdana"/>
              </a:rPr>
              <a:t>www.thorsten-butz.de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FF8-EB64-4486-B0FA-C87EE407B7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FAEA0-53D5-45B2-B398-C579817903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Anhang: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NFS 4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890800" y="476280"/>
            <a:ext cx="5353200" cy="577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2EF-1CC1-46A2-A114-C4B2D353B5D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71864-4BB9-41A5-9317-1C4191EA4A21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Teil 1: Linux@Hyper-V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Unterstützte Linuxdistribution(en)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SE Linux Enterprise Server 10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t Service Pack 1 oder 2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x86-32 oder x86-x64 Edi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Voraussetzunge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XEN-Kern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GCC plus "kernel-source"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icrosofts "Linux Integration Components" (LIC), Version 1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322-BC76-4375-8EAB-E6D486F3CB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A9BFC-FCA6-4A33-B33C-077E778486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Einschränkungen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1 virtuelle CPU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Kein Heartbe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Keine Zeitsynchronisation durch Hyper-V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Herunterfahren "von außen" nicht mögl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Mausintegration nur durch </a:t>
            </a:r>
            <a:r>
              <a:rPr b="0" lang="de-DE" sz="2400" spc="-1" strike="noStrike" u="sng">
                <a:solidFill>
                  <a:srgbClr val="0033cc"/>
                </a:solidFill>
                <a:uFillTx/>
                <a:latin typeface="Verdana"/>
                <a:hlinkClick r:id="rId1"/>
              </a:rPr>
              <a:t>Citrix Satori-Projek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ALT-GR-Taste bei deutscher Tastaturbelegung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u. U. funktionslos: </a:t>
            </a:r>
            <a:r>
              <a:rPr b="0" lang="de-DE" sz="2400" spc="-1" strike="noStrike" u="sng">
                <a:solidFill>
                  <a:srgbClr val="0033cc"/>
                </a:solidFill>
                <a:uFillTx/>
                <a:latin typeface="Verdana"/>
                <a:hlinkClick r:id="rId2"/>
              </a:rPr>
              <a:t>KB 963709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E77-7E4F-4652-A130-355CE9F249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FB8A8-9522-429A-9F0B-299F7F9726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LIC und der Problemfall XEN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LIC v2 BETA für Hyper-V R2 seit März 2009 verfügba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LIC v1 und v2 unterstützen keinen Kernel jenseits Version 2.6.1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Linuxdistributionen und ihre Kern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Ubuntu 8.04-2 LTS: KRNL 2.6.24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CentOS 5.3: KRNL 2.6.18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SLES 10, SP2: KRNL 2.6.16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611280" indent="-300240">
              <a:spcBef>
                <a:spcPts val="499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SLES 11: KRNL 2.6.27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D87-BDBF-46F3-9F5D-4B9A961325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B5394-A32D-4809-BAB1-57FD378BF8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"Enlightening" CentOS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34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Benötigte Pakete: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gcc, kernel-devel, make, gnupg;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für Satori: xorg-x11-server-sdk</a:t>
            </a:r>
            <a:br>
              <a:rPr sz="2400"/>
            </a:br>
            <a:br>
              <a:rPr sz="6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Beispiel:</a:t>
            </a:r>
            <a:r>
              <a:rPr b="0" lang="de-DE" sz="2400" spc="-1" strike="noStrike">
                <a:solidFill>
                  <a:srgbClr val="000099"/>
                </a:solidFill>
                <a:latin typeface="Lucida Console"/>
              </a:rPr>
              <a:t> 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Lucida Console"/>
              </a:rPr>
              <a:t>yum --disablerepo=\* --enablerepo=c5-media  </a:t>
            </a:r>
            <a:r>
              <a:rPr b="0" lang="de-DE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</a:t>
            </a:r>
            <a:r>
              <a:rPr b="1" lang="de-DE" sz="18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Lucida Console"/>
              </a:rPr>
              <a:t>install gcc kernel-devel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LIC installieren: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Lucida Console"/>
              </a:rPr>
              <a:t>&lt;lic-v2&gt;/setup.pl drive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95F-1F2B-4150-A393-03C71ABE84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C2067-76CD-46BB-9734-443C3FFA99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Teil 2: Subsystem for UNIX-based Applications (SUA)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ix Subsyste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achfolger der SFU 3.5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ative UNIX/POSIX-Funktionalität,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Keine Emul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Kein X-Server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nthalte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35737"/>
          <a:stretch/>
        </p:blipFill>
        <p:spPr>
          <a:xfrm>
            <a:off x="3635280" y="3632040"/>
            <a:ext cx="5343480" cy="246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B5A-120B-46AF-9A20-9F1279011D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77149-3372-4ED9-8484-7473EA297F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Zeita</a:t>
            </a: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e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152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560680" y="-948240"/>
            <a:ext cx="3816360" cy="65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1993 — </a:t>
            </a:r>
            <a:r>
              <a:rPr b="0" lang="de-DE" sz="1600" spc="-1" strike="noStrike">
                <a:solidFill>
                  <a:srgbClr val="000099"/>
                </a:solidFill>
                <a:latin typeface="Verdana"/>
              </a:rPr>
              <a:t>Win NT 3.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1994 — </a:t>
            </a:r>
            <a:r>
              <a:rPr b="0" lang="de-DE" sz="1600" spc="-1" strike="noStrike">
                <a:solidFill>
                  <a:srgbClr val="000099"/>
                </a:solidFill>
                <a:latin typeface="Verdana"/>
              </a:rPr>
              <a:t>Win NT 3.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1995 — </a:t>
            </a:r>
            <a:r>
              <a:rPr b="0" lang="de-DE" sz="1600" spc="-1" strike="noStrike">
                <a:solidFill>
                  <a:srgbClr val="000099"/>
                </a:solidFill>
                <a:latin typeface="Verdana"/>
              </a:rPr>
              <a:t>Win NT  3.5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1996 — </a:t>
            </a:r>
            <a:r>
              <a:rPr b="0" lang="de-DE" sz="1600" spc="-1" strike="noStrike">
                <a:solidFill>
                  <a:srgbClr val="000099"/>
                </a:solidFill>
                <a:latin typeface="Verdana"/>
              </a:rPr>
              <a:t>Win NT 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1997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—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1998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—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1999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—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2000 — </a:t>
            </a:r>
            <a:r>
              <a:rPr b="0" lang="de-DE" sz="1600" spc="-1" strike="noStrike">
                <a:solidFill>
                  <a:srgbClr val="000099"/>
                </a:solidFill>
                <a:latin typeface="Verdana"/>
              </a:rPr>
              <a:t>Win 2000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2001 — </a:t>
            </a:r>
            <a:r>
              <a:rPr b="0" lang="de-DE" sz="1600" spc="-1" strike="noStrike">
                <a:solidFill>
                  <a:srgbClr val="000099"/>
                </a:solidFill>
                <a:latin typeface="Verdana"/>
              </a:rPr>
              <a:t>Win XP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2002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—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2003 — </a:t>
            </a:r>
            <a:r>
              <a:rPr b="0" lang="de-DE" sz="1600" spc="-1" strike="noStrike">
                <a:solidFill>
                  <a:srgbClr val="000099"/>
                </a:solidFill>
                <a:latin typeface="Verdana"/>
              </a:rPr>
              <a:t>WS 200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—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2005 — </a:t>
            </a:r>
            <a:r>
              <a:rPr b="0" lang="de-DE" sz="1600" spc="-1" strike="noStrike">
                <a:solidFill>
                  <a:srgbClr val="000099"/>
                </a:solidFill>
                <a:latin typeface="Verdana"/>
              </a:rPr>
              <a:t>WS 2003 R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2006 — </a:t>
            </a:r>
            <a:r>
              <a:rPr b="0" lang="de-DE" sz="1600" spc="-1" strike="noStrike">
                <a:solidFill>
                  <a:srgbClr val="000099"/>
                </a:solidFill>
                <a:latin typeface="Verdana"/>
              </a:rPr>
              <a:t>Vista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—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2008 — </a:t>
            </a:r>
            <a:r>
              <a:rPr b="0" lang="de-DE" sz="1600" spc="-1" strike="noStrike">
                <a:solidFill>
                  <a:srgbClr val="000099"/>
                </a:solidFill>
                <a:latin typeface="Verdana"/>
              </a:rPr>
              <a:t>Vista SP1, WS 2008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2009 —</a:t>
            </a:r>
            <a:r>
              <a:rPr b="0" lang="de-DE" sz="2000" spc="-1" strike="noStrike">
                <a:solidFill>
                  <a:srgbClr val="8591ff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8591ff"/>
                </a:solidFill>
                <a:latin typeface="Verdana"/>
              </a:rPr>
              <a:t>W7, WS 2008 R2</a:t>
            </a:r>
            <a:r>
              <a:rPr b="0" lang="de-DE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162080" y="4152600"/>
            <a:ext cx="574560" cy="7700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150920" y="4122360"/>
            <a:ext cx="1028880" cy="80316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46240" y="4170240"/>
            <a:ext cx="1463760" cy="76536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8360" y="4897440"/>
            <a:ext cx="1439640" cy="763560"/>
            <a:chOff x="468360" y="4897440"/>
            <a:chExt cx="1439640" cy="763560"/>
          </a:xfrm>
        </p:grpSpPr>
        <p:sp>
          <p:nvSpPr>
            <p:cNvPr id="114" name=""/>
            <p:cNvSpPr/>
            <p:nvPr/>
          </p:nvSpPr>
          <p:spPr>
            <a:xfrm>
              <a:off x="468360" y="4897440"/>
              <a:ext cx="1439640" cy="763560"/>
            </a:xfrm>
            <a:prstGeom prst="ellipse">
              <a:avLst/>
            </a:prstGeom>
            <a:solidFill>
              <a:srgbClr val="dddddd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8520" y="4944960"/>
              <a:ext cx="121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osix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Subsystem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 flipV="1">
            <a:off x="4140000" y="4183200"/>
            <a:ext cx="1152360" cy="90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500360" y="4149720"/>
            <a:ext cx="771480" cy="9302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237280" y="4149360"/>
            <a:ext cx="55440" cy="9349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572000" y="4941720"/>
            <a:ext cx="1440000" cy="763560"/>
            <a:chOff x="4572000" y="4941720"/>
            <a:chExt cx="1440000" cy="763560"/>
          </a:xfrm>
        </p:grpSpPr>
        <p:sp>
          <p:nvSpPr>
            <p:cNvPr id="120" name=""/>
            <p:cNvSpPr/>
            <p:nvPr/>
          </p:nvSpPr>
          <p:spPr>
            <a:xfrm>
              <a:off x="4572000" y="4941720"/>
              <a:ext cx="1440000" cy="7635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04280" y="5041800"/>
              <a:ext cx="80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SFU/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Interix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6037200" y="4230360"/>
            <a:ext cx="1247760" cy="687240"/>
          </a:xfrm>
          <a:prstGeom prst="line">
            <a:avLst/>
          </a:prstGeom>
          <a:ln w="255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404040" y="4154040"/>
            <a:ext cx="892080" cy="784440"/>
          </a:xfrm>
          <a:prstGeom prst="line">
            <a:avLst/>
          </a:prstGeom>
          <a:ln w="255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7277040" y="4174920"/>
            <a:ext cx="14400" cy="749160"/>
          </a:xfrm>
          <a:prstGeom prst="line">
            <a:avLst/>
          </a:prstGeom>
          <a:ln w="255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269120" y="4188960"/>
            <a:ext cx="403200" cy="784440"/>
          </a:xfrm>
          <a:prstGeom prst="line">
            <a:avLst/>
          </a:prstGeom>
          <a:ln w="255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588000" y="4897440"/>
            <a:ext cx="1440000" cy="763560"/>
            <a:chOff x="6588000" y="4897440"/>
            <a:chExt cx="1440000" cy="763560"/>
          </a:xfrm>
        </p:grpSpPr>
        <p:sp>
          <p:nvSpPr>
            <p:cNvPr id="127" name=""/>
            <p:cNvSpPr/>
            <p:nvPr/>
          </p:nvSpPr>
          <p:spPr>
            <a:xfrm>
              <a:off x="6588000" y="4897440"/>
              <a:ext cx="1440000" cy="76356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23960" y="508932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SUA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H="1" flipV="1">
            <a:off x="2286000" y="4146480"/>
            <a:ext cx="728640" cy="843120"/>
          </a:xfrm>
          <a:prstGeom prst="line">
            <a:avLst/>
          </a:prstGeom>
          <a:ln w="255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662200" y="4086360"/>
            <a:ext cx="357120" cy="906480"/>
          </a:xfrm>
          <a:prstGeom prst="line">
            <a:avLst/>
          </a:prstGeom>
          <a:ln w="255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013200" y="4150800"/>
            <a:ext cx="965160" cy="817560"/>
          </a:xfrm>
          <a:prstGeom prst="line">
            <a:avLst/>
          </a:prstGeom>
          <a:ln w="255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384280" y="4930920"/>
            <a:ext cx="1439640" cy="763560"/>
            <a:chOff x="2384280" y="4930920"/>
            <a:chExt cx="1439640" cy="763560"/>
          </a:xfrm>
        </p:grpSpPr>
        <p:sp>
          <p:nvSpPr>
            <p:cNvPr id="133" name=""/>
            <p:cNvSpPr/>
            <p:nvPr/>
          </p:nvSpPr>
          <p:spPr>
            <a:xfrm>
              <a:off x="2384280" y="4930920"/>
              <a:ext cx="1439640" cy="76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95960" y="5031000"/>
              <a:ext cx="104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OpenNT/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Interix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06E-B455-42B4-A59B-5D53A50C09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B4DDE-E03F-462B-8C28-088CDEBD0D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440" y="456840"/>
            <a:ext cx="59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Verzeichnisse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091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%SUA_ROOT_WIN% 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c:\Windows\SUA = </a:t>
            </a:r>
            <a:r>
              <a:rPr b="1" lang="de-DE" sz="2400" spc="-1" strike="noStrike">
                <a:solidFill>
                  <a:srgbClr val="4d4d4d"/>
                </a:solidFill>
                <a:latin typeface="Verdana"/>
              </a:rPr>
              <a:t>/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%SystemDrive%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c:\ =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Verdana"/>
              </a:rPr>
              <a:t>/dev/fs/C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\\sea-srv-01\sales =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Verdana"/>
              </a:rPr>
              <a:t>/net/sea-srv-01/sa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85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orsten-butz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561-8E18-4ED4-9220-AF66908D39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8BC09-312F-49EC-8FEF-3EFA61C492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>Thorsten Butz</dc:creator>
  <dc:description>http://www.windows-forum.net/default.asp?content=programm</dc:description>
  <cp:keywords>Hyper-V SUA NFS SSO Kerberos LDAP</cp:keywords>
  <dc:language>en-US</dc:language>
  <cp:lastModifiedBy/>
  <dcterms:modified xsi:type="dcterms:W3CDTF">2009-06-21T14:22:45Z</dcterms:modified>
  <cp:revision>1</cp:revision>
  <dc:subject>Hyper-V, SUA, NFS, SSO, Kerberos, LDAP</dc:subject>
  <dc:title>Windows Linux Kooperation</dc:title>
</cp:coreProperties>
</file>